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518-436E-4866-8760-8B9B7204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BDE-2BFF-437E-9A59-C164F540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80A-97EE-40F8-89FD-43EE92BE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3C5-5991-4104-8608-24ECF063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150-9F98-4EFA-9BC9-E01E6D5D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3DE-96DA-48C2-AC06-45248BCE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35B-8D9C-459C-9118-B284B832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C2C-ACE2-4720-AA30-4DD9A49F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F4F-E9BE-4D4E-AC81-6D373E3C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8A3-DF34-4C02-B669-824ED0B4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516-0E8E-4BA0-ABAF-BA9EA534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FC6-F825-437E-B800-E2EA84F4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2362-7A93-4129-B6FD-190572C0B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 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person who tells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 liste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2-05T23:00:46Z</dcterms:modified>
  <cp:revision>1</cp:revision>
  <dc:subject/>
  <dc:title>PowerPoint Presentation</dc:title>
</cp:coreProperties>
</file>